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12B-23B4-4BA3-8D56-89A1F656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3BAB-ED31-4407-8341-4478203F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A6C-7D8D-4FA1-BB4D-6924F41E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9C8-8AE4-4D01-80CC-2107104C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7D3D-9E58-40B7-91A2-C24734C9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025E-B877-4607-AEED-2CD2CF9F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CEA5-F855-4AF5-8462-D7573E0D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6C2C-06AF-4F1F-8F4A-7CF92E4B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A9C6-7BF0-4AE8-8E28-985AEFED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29B3-7306-4174-AA72-5B36532D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2F06-A470-45A9-A69D-502F89C7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AC2-B96E-450B-B3F5-7253C30D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1291-D92F-44AC-BBA9-9F8D6218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12B1-134E-4418-A3CB-33CF5F8F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C57A-926F-43C7-B3B7-DB4E9460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2C99-7527-4A42-9AA2-C5C6B5DE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5042-332C-4533-889C-79430B3C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746B-BFA5-4BF7-BFE9-5BEEE39C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E13-F8A0-40C6-9EC5-C37643E2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832-6154-4676-9CD6-2CA0F9B0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20A-7B6B-4410-8CE0-8E8888A0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5083-DEF4-4433-BFDB-F02D4489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8C71-D48F-4AE3-BECF-5C97E02C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9AD-91F0-40D8-8250-EC451052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29BE-E5E6-4552-AEC1-A09F521ED0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8EA2-7FEC-4BFE-8360-7AF75B227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Lesson 5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gion and Roya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iggurat:  temple t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center of 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levels: gardens on each level, shrine on t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Ziggurats and the Greatest of them -  Sumerian Ziggurat of Ur"/>
          <p:cNvPicPr/>
          <p:nvPr/>
        </p:nvPicPr>
        <p:blipFill>
          <a:blip r:embed="rId1"/>
          <a:stretch/>
        </p:blipFill>
        <p:spPr>
          <a:xfrm>
            <a:off x="2286000" y="1905120"/>
            <a:ext cx="4667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ytheism:  the worship of many g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erians worshipped many false gods who acted like 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na: the Sumerian moon god; patron god of 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ests held powerful positions in Sumer because of their special “connection” to the g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ity had a g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Sumerians did not believe their city-god cared about their problems, they also worshipped several lesser gods in their h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erians worshipped gods by giving gifts, performing rituals, and praying to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gods were unhappy, disaster would stri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0" y="3816360"/>
            <a:ext cx="47242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le was seat of Sumerian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ty-state: an independent city and its surrounding 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er was made up of several city-st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had its own king and its own g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kings wrote down laws and ruled by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who broke laws often had to pay f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3:30:10Z</dcterms:created>
  <dc:creator>erin.hendricks</dc:creator>
  <dc:description/>
  <dc:language>en-US</dc:language>
  <cp:lastModifiedBy>erin.hendricks</cp:lastModifiedBy>
  <dcterms:modified xsi:type="dcterms:W3CDTF">2011-08-29T14:18:23Z</dcterms:modified>
  <cp:revision>2</cp:revision>
  <dc:subject/>
  <dc:title>Lessons 5 and 6</dc:title>
</cp:coreProperties>
</file>